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0B7-433F-4B7B-824B-54E346CF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6DB-7E56-4E86-9BC1-93B76723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F0F-2CFD-4DBD-928A-41F94153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021-616A-43A7-9C58-8C022574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63C-7E52-4368-97F8-AF590FC3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94B-E237-43CA-9CF6-4FAAAFC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E54-252E-4C83-8A70-D28B0279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773-88B0-4AAB-A075-B3B33551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E75-AB4E-45E4-866A-93826411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DED-F90A-4419-B1BD-D6BCBEB2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992-5E8D-4E82-9F3C-0B88E6C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290-7839-4476-AE7A-23DEC4ED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752D-CE63-4814-9B11-9A59AE007B38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Tuloksia liikenneministeriön tulevaisuuskatsauksen jäsentämisest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Sami Majaniemi LV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Jouni Tuomisto T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ista ei aihetta muutoksi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406600" y="1928880"/>
            <a:ext cx="8531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sisältyvät valmiik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92360" y="1471680"/>
            <a:ext cx="932184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huomioitu painotuksel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411280" y="1679400"/>
            <a:ext cx="896328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huomioitu lisäyksell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401920" y="1782720"/>
            <a:ext cx="896292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äätösten ehdottaminen suosituin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760" y="1511280"/>
            <a:ext cx="92473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Onko ehdotukset otettu huomioon uudessa versiossa (kaikki sivut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Miten ehdotukset suhteutuvat katsauksen luonnokse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574640"/>
            <a:ext cx="91440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yysuhteiden tarkaste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akeet pyrittiin jakamaan kolmeen luokka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äätös: Ehdotus toimenpiteestä tai päätöksestä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aikutus: Väite jonkin asian (esim. päätöksen) vaikutuksesta toiseen asia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rvo: Osallistujan kannanotto siitä, että jokin asia on hyvä, tavoiteltava tai huono, vältettävä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84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Jae: yksi kommentti tai yksi kappale pitemmästä tekstistä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äätösjakeiden tägipil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237960" y="1278000"/>
            <a:ext cx="961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Vaikutusjakeiden tägipil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-233280" y="1279440"/>
            <a:ext cx="96105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rvojakeiden tägipil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81080" y="1320840"/>
            <a:ext cx="96109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vastustavat tai ovat ristiriidassa katsauksen kans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76720" y="2757600"/>
            <a:ext cx="7022880" cy="4057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ksityisyyden suojaan on kiinnitettävä erityistä huomio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ettisyyden ja julkisen vallan suhde nousi esille us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ieliikennesuunni-telmia kohtaan tyytymättömyytt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tukevat katsau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95640" y="1763640"/>
            <a:ext cx="8818560" cy="509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ajempi kirjo san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asaisesti eri aihepiireist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yvä uutinen katsauksen tasapainon kannal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6T19:36:02Z</dcterms:created>
  <dc:creator>Tuomisto Jouni</dc:creator>
  <dc:description/>
  <dc:language>en-US</dc:language>
  <cp:lastModifiedBy>Tuomisto Jouni</cp:lastModifiedBy>
  <dcterms:modified xsi:type="dcterms:W3CDTF">2014-06-26T22:06:06Z</dcterms:modified>
  <cp:revision>8</cp:revision>
  <dc:subject/>
  <dc:title>Tuloksia liikenneministeriön tulevaisuuskatsauksen jäsentämisestä</dc:title>
</cp:coreProperties>
</file>